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827-008C-45EE-8E9D-3459E29A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02A2-31A7-4E49-AB69-5820E42CC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4718-2E68-4827-AD34-82B4A466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4F56-22CC-445B-84CA-CA9D46E8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1D7-D3B9-4B7B-A490-27BC02A04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6F8-5B84-491C-9831-7B22693A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9090-2408-4818-A85D-24ADE547D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733-61CE-427B-A948-C9790651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A18-6C4F-44DC-B020-3313186F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88F-6ABE-4BAB-A992-1761C21E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795-7F51-4698-B996-9F1C165A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ED21-03E0-486B-9151-F22DF7B32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6D8F-7C26-4D1D-8317-B0DEF12F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097C-2EAA-4FBC-854E-EB8E847D1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F1BA-C696-46AA-AF75-5316128A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F63-5AA4-489F-8D8A-B6275940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AB92-FE88-4ECB-A7E2-AAD09DC3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14B-1F0D-470A-996A-4E607B40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70D0-3286-4A30-9394-28B8133B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8C9-7AC3-47C1-BF20-393CCBDC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8BC-B5EE-4BD3-80C5-589320D5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B88-5EC9-430C-9C1A-F3CA03F5E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159-76BA-42A8-82B7-326E6B94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A32-6A59-4BB3-BD9B-2D157B2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A7-5F27-4A6E-97C5-8509DF5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C0352-A2FD-4D12-9AA8-9A66BB6F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C8E76-88C7-47A1-97B0-2670C284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A4AF2-D434-44ED-88A9-AD62991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8E469-1E83-471B-ABDB-E9F7F15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07E1B-F71D-4DDA-9101-2BD4460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4F45B-AF2F-4659-8BCD-674CBA3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AB642-3BF2-4340-9EE5-4C4F3C9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78F71-7E2C-4BF4-B52F-307A7436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D6CB-6953-46E2-AA87-1B484AE1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DE50-6C54-40D3-BAB2-AD83BA3D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D59-DD50-44B0-B2B8-047E1B16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E6A81-8760-48C7-A6D3-96BB78A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6D8C9-0B8D-41BB-A5A1-758F44EB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BC710-C7D2-4F7D-B094-9C0BB29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D922C-6B4F-4FA3-8660-EFF0E86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AA7CF-B292-44A6-BB74-263B1E5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49D2-01F7-456E-A4A2-63386DE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FB8A4-1601-443A-B9A8-C27650E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8BCE1-095C-4C61-A5C1-1BD5654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154C-815D-476F-A95E-8F8DA4D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4F90A-B7DB-4FC4-9C7D-9420A601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CE7-17E9-4C1F-AF50-FAE09BE6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23064-2E95-4A22-B0B3-525818AF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1014-7FC7-4C68-A9E1-E4A085AA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8C00F-A028-4EA2-BE54-8AEEAE3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FDF7-F8E8-41AB-B80D-73C1C2B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4896F-7E34-4989-BA43-C6BAD36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3C095-0F52-4B9D-845B-B2C0749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D3D88-F7B1-4072-967C-6A213FBF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A535-9CFE-44B3-A929-6FA28A1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3CAA-E60D-4C36-A5BF-22FAD6A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C074A-C587-4BD8-8491-FE6E226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720-31DA-4AB2-B860-E26176B9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B7843-C8F6-4E71-80C1-3A9E984D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22BA-6D27-40A3-B0A8-D3D854B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8E38E-FCD7-4867-A595-4AFDBD55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F0AFF-B020-4B54-8D6C-4A6F7681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C00E0-5548-4CA9-B0EE-A570F30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07750-25EB-427E-8ACA-4E3C4F57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388F6-5A54-45A6-A2A9-78A2607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49984-7156-43E1-9A9C-A39D9ED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0361-83F5-465C-A898-6F922D1F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34D9B-9A55-48AE-84B0-9863980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B9E-B10A-430F-97F3-95EA87D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6504B-D737-4E42-96AA-F28266A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A870E-D14D-48C5-91F7-3DF138D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8E327-B15F-4E95-90DF-FD037B3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DC52-A7A2-49C7-9AD1-A585F815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C34EE-54AD-4BB6-B454-C36960D3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93BA-5392-4389-97C3-67E1C34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D04-3438-4010-AD33-ABC820FA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9640-78B0-40B5-A320-0AE4406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429B-3568-4B96-950F-C941B4C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A87-2BA0-438F-8B91-1ADCBB34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16A-6D7E-425E-A9CE-69E01DF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FFFA-EA98-4F1D-B756-0E31B77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F85D-9916-4424-A331-212742C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7A0-E243-460E-80E7-7857C0F5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956C-5D70-410F-8970-A1C66F19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A8BA-6328-44F0-856D-82AF1CBC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9AE5-EA58-4E14-938F-0A46D9F7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C3B6-C8F2-4CAF-847B-3E3B23F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8E8F-2329-47A0-8524-6D5DE41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E87C-1154-42AC-AA7E-B387689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712B-D233-4F04-8F17-B7FB3C3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AB7-20E1-4F54-8087-0D06D556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6CEF-BBCD-4B15-BC32-5C63FD2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17F2-A60D-4E40-9FFC-C4B9CD0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0CBE-3E6B-4AA4-9988-5D02E8B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0F1C-77F7-4E44-AF31-BEE37B0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2C98-5592-4583-80E3-0F3700F3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4F5C-BB31-49E6-9689-C39E9438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EE3A-0182-44A9-B769-C4B2A8EC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4944-81A4-4224-874D-A6056287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3E4D-21D0-4E99-BE6C-88BD719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8CFE-B646-42C8-A251-6167F26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00A-423A-45BB-B26D-B75F859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E0CB-43D7-49C6-90A3-63B6397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83D1-3FE4-4665-9241-BEC75B4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B320D-7FC9-4743-8A62-491E9A3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C579-0A84-49F7-BBD3-138E324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97FA-80D8-41A7-87B4-8A02A3E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107A-D8B1-4F43-9619-C3B6432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29A8-B45A-4398-875B-A9B1940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39BE-561A-4B36-9FE1-1709EDA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A421-BD6A-4246-9F03-CE71391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21AA-4EA0-42D9-B372-261848B6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816-364A-4C81-9DBB-9189E52B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7964-CA7A-48DA-94BF-13792F7C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84C7-050B-4049-8939-3D2C5C6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A28C2-FEF3-4C90-8BEE-2AE35970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916C-4409-4EEA-B38C-EA10800C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1CA7-DF4F-40B5-BE80-999F55AF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65EAF-933A-4A78-B903-4C0B820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DF968-661F-4F8D-92C8-431E235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92A07-5E3C-456C-B8C1-4AD599BE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3E3E5-4C9B-4DF0-B4EC-4CCA957E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FAE7-2804-439B-98CF-FDDFA667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676-8EDD-4C03-9842-9FB5FCC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4D68-200A-4979-B98E-F7093AD3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FA54-3C9D-4A59-BE78-37077F47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C98E-6C65-4029-8089-0F1D11D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0851C-39B7-42B1-8EAF-19C1FAE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CA28-FA92-434D-B62C-88A3AC00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CD23-AE82-4EC8-A4E2-F0CBB0A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8CD0-1457-482E-A4D7-F5E0F174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5AFA-8117-4090-8D2F-9B2256C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17F46-0DF0-45A9-94B5-94C17CB3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8AF4-B0E0-48B1-A103-5B56469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D5C-09DA-4E05-9D9B-124C608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CEDE-7D8C-43DF-AD20-B67D7C9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167DB-7EED-4470-9D21-672138E5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CF73-7BF3-471E-8323-3578BDBB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E91D-6FC3-4802-AA66-60736AA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4E41-5FA8-42BD-BDC6-7760EE9A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1DD21-B63D-493B-96C8-82B59EF6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F67C-4CC5-40EE-B8FA-19BB3AD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BC52-4235-4376-A236-D48A187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0A0C-148B-46B0-9587-D19C0AA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54074-A5AC-4FF2-B24D-FCE0669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39F-B796-4486-AEDA-16D64ED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4900-035E-42A0-8AB9-6E55851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9E89-DE98-4238-8895-A858371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5218-B4E6-4838-82CA-7966083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FE17-F6DD-41BB-BDB1-8F29F6D7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4B32-C3B9-4D01-B6BD-03288E20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1688-FDF5-47FF-8633-763480C9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CDFF7-E5C9-4708-A701-E86323F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8CBA7-77F2-4EE6-B34C-8F84333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5878F-EA17-4CFC-9DC2-95EE2D5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4A8D2-4B62-4998-817E-36490F20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4FD-9540-4CE0-8DDC-4F73010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8D7B-F208-4592-B2FD-F438991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31A5-3ED4-4B29-BC9A-D83F4B7D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192F8-9787-4422-A0A3-75E6EFE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AB31-0EA7-4461-8CA1-79B7418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B93E-4E09-493E-946B-CDCCA22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0E45-F017-4BF8-86B9-B258270E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830C-AC5A-4A04-9138-562FCCD9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41E4-AEFC-41BC-9B70-B8149989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2755-E6C0-45C5-81EC-9FE4489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FA1E6-0E16-402E-865F-225C701D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F647-1637-49EB-AAD7-61F6D813F483}" type="slidenum"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B34-08D4-4574-B30A-4AA9D0452D32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3778-D1F3-43F0-A0C7-6141BF38E1F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1C1-9DA8-4A61-B93E-36FB08F11E1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2845-0DB8-4855-9985-CDBA4E34D0F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AA12-417D-4F93-A094-BC30DC6085A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4EA-405C-4756-9082-BECCDAB95E52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1E82-92D8-4005-9C8A-8E2959E3DF9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F30E-4118-4398-A56D-27F2C932EC2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C57F-A952-4BEF-A6B5-0AEF6E5ACA18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947-34CA-46F1-83A3-8D3F4F0ACCC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CE7-9786-4E6C-8C69-9043BAC9F54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97BF-4208-4465-83C3-745E3BDC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The Public Finance Context 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2B95-4F09-458F-8F64-80FE962D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conomic Effe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a neutral impact on the econo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policy can impact individual or corporate behav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deduction for mortgage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ax rates across jurisdictions (i.e.. sales tax dif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-based, low-rate taxes create the fewest economic distor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8D85-F6C7-4ED5-ABE9-62FFB7357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ministration and Complian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complex the tax, the greater the costs of administration and compl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ing and gathering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the tax 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ittance of the tax 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E1C-5B58-42FC-AF29-2918A062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source of revenue for the federal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41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more states tax interest, dividends, and capital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in how income is measu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0857-0CF4-4918-BEE9-A9E46E7D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high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rogressive of the major forms of taxation in the United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y stable until the 1990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elasti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of tax brackets has reduced the elast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707D-A564-4B66-A837-005CDF97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neu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ductions and measurement issues change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ly to admini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overn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axpay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E98-B07D-446F-88C0-265911F9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te Income Tax Re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the 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h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values of personal exemptions, standard deductions and earned income credits to eliminate the poor from tax ro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the entire tax structure so revenue increases are not the result of inf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902-A1F5-416F-973A-51345FE0F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state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use by 45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is consum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any states exempt certain purch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ing up to a certain expenditure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60D-F97B-410A-ADC2-AF406C3CE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s elastic as income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ly more stable than income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table than property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quity is hi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s are generally uniform within a jurisdi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qu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s taxes tend to be regressive because consumption as a percent of income declines as income ri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0C5-06E4-4EC0-8EA6-D8FEEF48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depend on the mobility of products and the disparity of rates across jurisdi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costs generally lower than for income or property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 to be more politic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igan 1994, for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ied on nonres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97B-515B-4582-9FCA-D690BB73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stay of local government 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is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(some st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true or market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ing alternative assessed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land use (i.e., farmi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laws that distort assessed value (i.e., California’s Prop. 1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A9F-9728-47F2-8581-630B0165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Federal System: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s of Revenue for Scho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school distri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property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DB4-6E22-4CD4-9F2B-8ECE1AE8F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ly inelas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 is generally s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ment about the regressivity or progressivity of the property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it is regressive at income levels below $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18D-2CAF-441D-ABDD-44983845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administration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y and collection of the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tax relie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stead exemp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break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deferr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tax limi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2FC9-0B86-4E21-9A5A-24CB7104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Lotteri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roduced in New Hampshire in 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rtion of education reven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teries are a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lotteries are regres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has shown to be relatively uns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s flatten out over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dministration costs (often as much as 2/3 of reven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and selling ti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z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839-4398-4012-8293-8FBD24AE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Assessing and 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Understanding Taxation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x Yield = Tax Rate x Tax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CCD3-AFFD-45A2-A9AE-DF111DCF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riteria for Evaluating Tax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x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of the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and compli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060-CE69-44B3-BBFE-AAC5F0DB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ax Bas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tity to which a tax rate is appl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71E-0E23-4358-8CB5-5BBABDC4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revenue a tax will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broad-based taxes with low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s that offer a consistent yield over time are desirable from a planning persp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percentage change in yield compared to the percentage change in th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A91-2E71-4395-B926-499A0576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ax Equ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“fairness” of a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 tax treatment of individuals in the same or equal circum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ax treatment of individuals at different circumstances (i.e., ability to p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18A-2CFB-409B-B7E1-E258BF85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ertical Equ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increases, the proportion of income taxed incre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ssive 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increases, the proportion of income taxed decre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tional 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changes, the proportion of income taxed remains the sam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FF60-B6F6-4480-A1D2-F9EF7200E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Equity Issu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inci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ctually pays the tax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f income trans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14:27Z</dcterms:created>
  <dc:creator>AllanO</dc:creator>
  <dc:description/>
  <dc:language>en-US</dc:language>
  <cp:lastModifiedBy>AEURY</cp:lastModifiedBy>
  <cp:lastPrinted>1998-11-17T16:53:48Z</cp:lastPrinted>
  <dcterms:modified xsi:type="dcterms:W3CDTF">2011-06-12T19:52:07Z</dcterms:modified>
  <cp:revision>57</cp:revision>
  <dc:subject/>
  <dc:title>No Slide Title</dc:title>
</cp:coreProperties>
</file>